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A68-F783-4ECD-A91F-09C1418B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0CD-B680-401B-A2CB-25343DCD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0E7-BE5A-4F82-BC03-4491F37D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616-F128-41D1-9F6E-08FFDEE8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D928-1CD9-474C-9E4F-559DD706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167C-CFFD-475D-975E-E52F0BF6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F727-18F6-4546-9929-7F3BC32B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6E2A-92CA-4E44-BE9A-A8B1BB75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E06E-FD76-4FA0-9C4C-D832753B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E1DA-4115-47D6-BA8A-70296104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9C73-D6C3-4A11-9DF7-C804F00A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1AB-00AF-4E45-AE01-9ACF9C1D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1541-9DAD-4F44-93E7-8FB8B6C8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2B7E-A513-4AF2-A927-88F1C6E6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FF8B-ECCB-42CD-A0A3-8CDE7715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4A19-C324-47DE-AC59-E14507BA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CE70-479E-45CC-9D66-85398C62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1965A-3D72-469D-8344-2CCC14DC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25524-F089-4069-BF53-92D8590C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4D017-E9A7-40AB-8317-28C9C405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B6FA1-BCDD-4910-9841-87EA0863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082EF-CCE6-419D-8F4E-EC1B33E8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858-C772-4B64-BCBE-2D38DAC4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36851-B101-4D97-AC04-F1C23A32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CFF7-A4FE-4046-AEC1-9685F920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24B22-1823-412A-B7DD-AB6B9816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76BF6-A68B-428A-9161-633C43EC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260E7-D096-458E-9649-BA184175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8EFC8-6E05-4531-B535-46F087CC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9E1E4-B4E0-4E8C-B170-F31D521B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668B6-FB8C-4748-95FC-6902B020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18155-F438-421F-B7C6-DE1AED6B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E000F-040F-4D25-898E-DD6DF26D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FFC-BAFE-4A39-B60E-FFEBD498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F9C11-DC0F-4585-B94C-398D9FE3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4D35C-C3FE-4FEF-AF4C-6894BDA3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7C1E4-6102-4842-ACA1-CFCD8DFF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28511-FF87-43E7-B88C-F0C0FE5B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FA2FA-69C5-42DA-B22B-2D2CB520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87033-6B12-411A-9E09-95B44477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398F0-875A-4CF1-88D8-81E56DCB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14626-B244-47E5-9132-209DCEB2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4D29B-3D28-4F5C-B803-9F6C2563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CB002-BBFE-4804-A648-8703AAFA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20C-D6A9-4E54-BF72-C3573548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0AE3E-E30E-4A8B-BCD4-0D26A8E2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4BAE7-EA29-45E6-91C4-A7C713D5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B889C-366F-4C16-86FE-1D0AC171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A9F35-002E-4F97-8ACD-D0293065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00916-5C11-4A97-BBEB-652607CF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0FCC9-7BE9-4947-A27A-F8A4DB4A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48A28-4555-4644-9897-53CE5360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27FD2-E39E-4C7B-BAD8-FBEFA5F6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988B2-F84C-4827-A00A-38BDDC1A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A60FE-5AC3-478A-A502-F4BA4F14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02F-1172-4C16-B733-EAD2883F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9453D-8E87-4FA7-B34F-E5BA6D12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F5C5A-F618-4111-BACF-ECDC8524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F1657-A5F5-4CA1-B9D1-C6616D0E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9C7AA-CB96-4F7F-8427-E4ACAFE7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6533C-9A54-4F48-AF0C-0EAC657B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C0358-F782-436C-9D3E-CA0B27D6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9E00B-0642-4048-9C1F-C14E43D7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9B0AE-ABFE-438D-A618-0A828A47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F4DA8-A619-40A6-81D2-229C3BC8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30304-0C44-4F8E-A408-B7A1924F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6CA-3DA2-40FB-9107-73684BD0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20FF0-9E1A-4724-8E06-A47A54B6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27BB3-8EF9-4994-B83A-2824CFF4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8E8A2-00A4-4D76-8C09-20565584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12E-34A3-471A-9C0C-E64F9EEA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1A4-30C3-4196-BC27-2B363BBF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1223-C5CA-4452-BE94-1629CFAE1CB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0A8F-3123-4475-8D6F-09BEED95EED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0E8C-643C-49E6-8F98-15E5AE4E911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7ED7-B12A-4689-8D20-59BFF9599F7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4B62-49A8-4C12-940E-8F079FE5EE8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F1CC-4FF0-498A-9151-767194A6F58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рок русского языка в 7 класс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295280" y="1295280"/>
            <a:ext cx="7572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авописание производных пред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Е или И? Кто быстрее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8080" y="2742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.В течени… дня заросли неузнаваемо изменилис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2.Ошибки допущены вследстви… невниматель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. В продолжени… романа появятся новые геро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. Мели постоянно попадались в течени… рек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. Шорох и шёпот слышались в продолжени… час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 flipH="1">
            <a:off x="1175760" y="701028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143000" y="12952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ишите на листке рядом с номером предложения вставленную букв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 или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7524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5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тавьте буквы, выпишите их, прочитайте получившееся слово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3280" y="1295280"/>
            <a:ext cx="368784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тем…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тт…с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негр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…ика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лон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с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…ссаж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…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нве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наря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…ьб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…з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990720" y="2743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ься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)пере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онны, об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о)кр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ника, спешить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на)встреч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и, пр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по)з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оящего трамвая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т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(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не)смотря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асность, перевести деньги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анке, поговорить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аменов; (не) смотря на доску, решил задачу;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ереездом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след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погоды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продол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под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16002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игаться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пере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лонны, об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округ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амятника, спешить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навстречу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асности, пр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поза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тоящего трамвая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теч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пасность, перевести деньги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 счё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банке, поговорить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счёт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кзаменов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 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ску, решил задачу;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связи 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ереездом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след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епогоды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продолж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подоб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цвет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7"/>
          <p:cNvSpPr/>
          <p:nvPr/>
        </p:nvSpPr>
        <p:spPr>
          <a:xfrm>
            <a:off x="31240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371600" y="954000"/>
            <a:ext cx="65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м правописание нареч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ойте скобки, вставьт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914400" y="2325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)век, (на)отмаш…, точь(в)точь, бок(о)бок, (в)ручную, (по)ребячески, (во)первых, (по)нашему, (ото)всюду,  (не)жданно, (не)однократно, (не)правдиво, а лжи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уть (не)интересно, снов…, досрочн…, навзнич…, замуж…, (мало)помалу. (еле)еле, (не)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им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1828440"/>
            <a:ext cx="8183520" cy="396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век, наотмашь, точь - в -точь, бок о бок, вручную, по-ребячески, во-первы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-нашему, отовсюду,  нежданно, неоднократно, не правдиво, а лживо,  ничуть не интересно, снова, досрочно, навзничь, замуж, мало-помалу,  еле -еле, не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rganization Chart 7"/>
          <p:cNvGrpSpPr/>
          <p:nvPr/>
        </p:nvGrpSpPr>
        <p:grpSpPr>
          <a:xfrm>
            <a:off x="755640" y="549360"/>
            <a:ext cx="7776000" cy="5902920"/>
            <a:chOff x="755640" y="549360"/>
            <a:chExt cx="7776000" cy="5902920"/>
          </a:xfrm>
        </p:grpSpPr>
        <p:cxnSp>
          <p:nvCxnSpPr>
            <p:cNvPr id="273" name="_s1028"/>
            <p:cNvCxnSpPr>
              <a:stCxn id="274" idx="0"/>
              <a:endCxn id="275" idx="2"/>
            </p:cNvCxnSpPr>
            <p:nvPr/>
          </p:nvCxnSpPr>
          <p:spPr>
            <a:xfrm flipV="1">
              <a:off x="686520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1029"/>
            <p:cNvCxnSpPr>
              <a:stCxn id="277" idx="0"/>
              <a:endCxn id="278" idx="2"/>
            </p:cNvCxnSpPr>
            <p:nvPr/>
          </p:nvCxnSpPr>
          <p:spPr>
            <a:xfrm flipV="1">
              <a:off x="242136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75" idx="1"/>
              <a:endCxn id="280" idx="2"/>
            </p:cNvCxnSpPr>
            <p:nvPr/>
          </p:nvCxnSpPr>
          <p:spPr>
            <a:xfrm rot="10800000">
              <a:off x="464292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1031"/>
            <p:cNvCxnSpPr>
              <a:stCxn id="278" idx="3"/>
              <a:endCxn id="280" idx="2"/>
            </p:cNvCxnSpPr>
            <p:nvPr/>
          </p:nvCxnSpPr>
          <p:spPr>
            <a:xfrm flipV="1">
              <a:off x="408816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0" name="_s1032"/>
            <p:cNvSpPr/>
            <p:nvPr/>
          </p:nvSpPr>
          <p:spPr>
            <a:xfrm>
              <a:off x="2977200" y="54936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о происхождению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редлоги бывают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75564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не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519912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35"/>
            <p:cNvSpPr/>
            <p:nvPr/>
          </p:nvSpPr>
          <p:spPr>
            <a:xfrm>
              <a:off x="75564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В, на, за, из-за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-под, по-над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, под, у, от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6"/>
            <p:cNvSpPr/>
            <p:nvPr/>
          </p:nvSpPr>
          <p:spPr>
            <a:xfrm>
              <a:off x="519912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Ввиду, вследстви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австречу,врод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есмотря на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Правописание производных предлогов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990720" y="1295280"/>
          <a:ext cx="7619760" cy="425952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Сли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следствие(=по причин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роде        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подобие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место(=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счет(=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виду(=из-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есмотря на(=вопрек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течение               (=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продол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целях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о стороны  (=о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 причине  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заключение(=в итог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2514600" y="53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с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14300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благод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8380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хорошей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м успех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беди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вы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72428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вследствие, из-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105520" y="50292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724280" y="22860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лохой по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х неу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терпел пораже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ро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азличайте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части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ся в течение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ься вследствие непог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хать в продолжение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ть насчет пох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йти вместо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спеть ввиду опоз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, несмотря на труд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ороты в течении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едствии по делу о кра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йте в продолжении ром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сти на счет в ба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ть в место сбора отряд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йте это в ви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мотря на прохож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Е или И? Если вставили Е, выпишите первое слово из предложения, если И- второе. Прочитайте получившееся предложение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762120" y="198108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м нужно идти в течени… цел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вороты следует искать в течени… ре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 отыскать ошибки в следстви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товый флажок отяжелел вследстви…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фр меняют в продолжени…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3280" y="2514240"/>
            <a:ext cx="8183520" cy="2203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вас должно получиться предлож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Verdana"/>
              </a:rPr>
              <a:t>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Вам следует отыскать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  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стартовый шифр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7</cp:lastModifiedBy>
  <dcterms:modified xsi:type="dcterms:W3CDTF">2013-05-07T02:24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